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0A5-A680-4AC9-B645-2656CB05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250-ED60-4B5C-BAAD-D824E9C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07D-D54A-47BC-B7BD-3E985078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861-8143-4F21-B24F-2ADFA83A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354-6A05-436C-98DF-A1AA5FA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890-A69C-479B-A41D-CD39966D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707-EC50-466F-8513-B1214D7F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A2B-E887-4301-B421-3D59F83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077-C4E0-41AF-9839-C1CC5E50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D88-32EA-43C7-95F4-B36FAB7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4F9-CA83-4DCF-9049-2CDE2ED2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D45-0B50-40AF-A696-BD78A50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B442-06A7-476E-B335-6D42BA35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png"/><Relationship Id="rId16" Type="http://schemas.openxmlformats.org/officeDocument/2006/relationships/image" Target="../media/image1.png"/><Relationship Id="rId17" Type="http://schemas.openxmlformats.org/officeDocument/2006/relationships/image" Target="../media/image2.jpeg"/><Relationship Id="rId18" Type="http://schemas.openxmlformats.org/officeDocument/2006/relationships/image" Target="../media/image3.jpeg"/><Relationship Id="rId19" Type="http://schemas.openxmlformats.org/officeDocument/2006/relationships/image" Target="../media/image4.jpe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60160" y="164880"/>
            <a:ext cx="311148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r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2200" y="2822400"/>
            <a:ext cx="1820520" cy="529920"/>
            <a:chOff x="322200" y="2822400"/>
            <a:chExt cx="1820520" cy="529920"/>
          </a:xfrm>
        </p:grpSpPr>
        <p:pic>
          <p:nvPicPr>
            <p:cNvPr id="43" name="" descr="thumbnail of small NSF logo in color "/>
            <p:cNvPicPr/>
            <p:nvPr/>
          </p:nvPicPr>
          <p:blipFill>
            <a:blip r:embed="rId1"/>
            <a:stretch/>
          </p:blipFill>
          <p:spPr>
            <a:xfrm>
              <a:off x="746640" y="2822400"/>
              <a:ext cx="397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Black and White WSU Logo"/>
            <p:cNvPicPr/>
            <p:nvPr/>
          </p:nvPicPr>
          <p:blipFill>
            <a:blip r:embed="rId2"/>
            <a:stretch/>
          </p:blipFill>
          <p:spPr>
            <a:xfrm>
              <a:off x="1144800" y="2822400"/>
              <a:ext cx="4996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Nhsin.jpg (31396 bytes)"/>
            <p:cNvPicPr/>
            <p:nvPr/>
          </p:nvPicPr>
          <p:blipFill>
            <a:blip r:embed="rId3"/>
            <a:stretch/>
          </p:blipFill>
          <p:spPr>
            <a:xfrm>
              <a:off x="322200" y="2822400"/>
              <a:ext cx="370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logo_300_RGB.jpg"/>
            <p:cNvPicPr/>
            <p:nvPr/>
          </p:nvPicPr>
          <p:blipFill>
            <a:blip r:embed="rId4"/>
            <a:stretch/>
          </p:blipFill>
          <p:spPr>
            <a:xfrm>
              <a:off x="1675080" y="2822400"/>
              <a:ext cx="467640" cy="52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184480" y="257652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840" y="1708200"/>
            <a:ext cx="44481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3600" y="165240"/>
            <a:ext cx="4478400" cy="326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69920" y="241200"/>
            <a:ext cx="144144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60520" y="3505320"/>
            <a:ext cx="311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th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2200" y="6162840"/>
            <a:ext cx="1820520" cy="529560"/>
            <a:chOff x="322200" y="6162840"/>
            <a:chExt cx="1820520" cy="529560"/>
          </a:xfrm>
        </p:grpSpPr>
        <p:pic>
          <p:nvPicPr>
            <p:cNvPr id="53" name="" descr="thumbnail of small NSF logo in color "/>
            <p:cNvPicPr/>
            <p:nvPr/>
          </p:nvPicPr>
          <p:blipFill>
            <a:blip r:embed="rId6"/>
            <a:stretch/>
          </p:blipFill>
          <p:spPr>
            <a:xfrm>
              <a:off x="746640" y="6162840"/>
              <a:ext cx="397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Black and White WSU Logo"/>
            <p:cNvPicPr/>
            <p:nvPr/>
          </p:nvPicPr>
          <p:blipFill>
            <a:blip r:embed="rId7"/>
            <a:stretch/>
          </p:blipFill>
          <p:spPr>
            <a:xfrm>
              <a:off x="1144800" y="6162840"/>
              <a:ext cx="4996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Nhsin.jpg (31396 bytes)"/>
            <p:cNvPicPr/>
            <p:nvPr/>
          </p:nvPicPr>
          <p:blipFill>
            <a:blip r:embed="rId8"/>
            <a:stretch/>
          </p:blipFill>
          <p:spPr>
            <a:xfrm>
              <a:off x="322200" y="6162840"/>
              <a:ext cx="370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logo_300_RGB.jpg"/>
            <p:cNvPicPr/>
            <p:nvPr/>
          </p:nvPicPr>
          <p:blipFill>
            <a:blip r:embed="rId9"/>
            <a:stretch/>
          </p:blipFill>
          <p:spPr>
            <a:xfrm>
              <a:off x="1675080" y="6162840"/>
              <a:ext cx="46764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184480" y="591660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3840" y="5048280"/>
            <a:ext cx="45244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600" y="3505320"/>
            <a:ext cx="4478400" cy="326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169920" y="3581280"/>
            <a:ext cx="1441440" cy="113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3440" y="165240"/>
            <a:ext cx="311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th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75120" y="2822400"/>
            <a:ext cx="1820520" cy="529920"/>
            <a:chOff x="4875120" y="2822400"/>
            <a:chExt cx="1820520" cy="529920"/>
          </a:xfrm>
        </p:grpSpPr>
        <p:pic>
          <p:nvPicPr>
            <p:cNvPr id="63" name="" descr="thumbnail of small NSF logo in color "/>
            <p:cNvPicPr/>
            <p:nvPr/>
          </p:nvPicPr>
          <p:blipFill>
            <a:blip r:embed="rId11"/>
            <a:stretch/>
          </p:blipFill>
          <p:spPr>
            <a:xfrm>
              <a:off x="5299560" y="2822400"/>
              <a:ext cx="397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Black and White WSU Logo"/>
            <p:cNvPicPr/>
            <p:nvPr/>
          </p:nvPicPr>
          <p:blipFill>
            <a:blip r:embed="rId12"/>
            <a:stretch/>
          </p:blipFill>
          <p:spPr>
            <a:xfrm>
              <a:off x="5697720" y="2822400"/>
              <a:ext cx="4996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Nhsin.jpg (31396 bytes)"/>
            <p:cNvPicPr/>
            <p:nvPr/>
          </p:nvPicPr>
          <p:blipFill>
            <a:blip r:embed="rId13"/>
            <a:stretch/>
          </p:blipFill>
          <p:spPr>
            <a:xfrm>
              <a:off x="4875120" y="2822400"/>
              <a:ext cx="370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logo_300_RGB.jpg"/>
            <p:cNvPicPr/>
            <p:nvPr/>
          </p:nvPicPr>
          <p:blipFill>
            <a:blip r:embed="rId14"/>
            <a:stretch/>
          </p:blipFill>
          <p:spPr>
            <a:xfrm>
              <a:off x="6228000" y="2822400"/>
              <a:ext cx="467640" cy="52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6737400" y="257652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76760" y="1708200"/>
            <a:ext cx="45244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6520" y="165240"/>
            <a:ext cx="4478400" cy="326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5"/>
          <a:stretch/>
        </p:blipFill>
        <p:spPr>
          <a:xfrm>
            <a:off x="4722840" y="241200"/>
            <a:ext cx="1441440" cy="121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13440" y="3503520"/>
            <a:ext cx="311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th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75120" y="6162840"/>
            <a:ext cx="1820520" cy="529560"/>
            <a:chOff x="4875120" y="6162840"/>
            <a:chExt cx="1820520" cy="529560"/>
          </a:xfrm>
        </p:grpSpPr>
        <p:pic>
          <p:nvPicPr>
            <p:cNvPr id="73" name="" descr="thumbnail of small NSF logo in color "/>
            <p:cNvPicPr/>
            <p:nvPr/>
          </p:nvPicPr>
          <p:blipFill>
            <a:blip r:embed="rId16"/>
            <a:stretch/>
          </p:blipFill>
          <p:spPr>
            <a:xfrm>
              <a:off x="5299560" y="6162840"/>
              <a:ext cx="397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Black and White WSU Logo"/>
            <p:cNvPicPr/>
            <p:nvPr/>
          </p:nvPicPr>
          <p:blipFill>
            <a:blip r:embed="rId17"/>
            <a:stretch/>
          </p:blipFill>
          <p:spPr>
            <a:xfrm>
              <a:off x="5697720" y="6162840"/>
              <a:ext cx="4996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Nhsin.jpg (31396 bytes)"/>
            <p:cNvPicPr/>
            <p:nvPr/>
          </p:nvPicPr>
          <p:blipFill>
            <a:blip r:embed="rId18"/>
            <a:stretch/>
          </p:blipFill>
          <p:spPr>
            <a:xfrm>
              <a:off x="4875120" y="6162840"/>
              <a:ext cx="370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logo_300_RGB.jpg"/>
            <p:cNvPicPr/>
            <p:nvPr/>
          </p:nvPicPr>
          <p:blipFill>
            <a:blip r:embed="rId19"/>
            <a:stretch/>
          </p:blipFill>
          <p:spPr>
            <a:xfrm>
              <a:off x="6228000" y="6162840"/>
              <a:ext cx="46764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6737400" y="591516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76760" y="5048280"/>
            <a:ext cx="45244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6520" y="3503520"/>
            <a:ext cx="4478400" cy="3264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4722840" y="3579840"/>
            <a:ext cx="1441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27:33Z</dcterms:created>
  <dc:creator>Marks Lab</dc:creator>
  <dc:description/>
  <dc:language>en-US</dc:language>
  <cp:lastModifiedBy>Marks Lab</cp:lastModifiedBy>
  <dcterms:modified xsi:type="dcterms:W3CDTF">2006-09-21T18:12:30Z</dcterms:modified>
  <cp:revision>6</cp:revision>
  <dc:subject/>
  <dc:title>Welcome  Biology Research Club North High School  pass me the salt GK-12 program     </dc:title>
</cp:coreProperties>
</file>